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8CB-AFF7-494A-BF2C-86CCA31B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CEB-6FAA-4F46-8A65-DD4FEF08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322-4B56-48C2-ADA9-F51CA147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695-B55B-4094-BDE1-79245BCF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8AC-0CD8-4A82-A6A2-B8E8FAE7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404-EC0A-4E92-9A6A-B1668ACB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8F1-B111-4525-BDA3-3A7AEC14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B28-7782-4D6C-83DF-254A4B89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343-1350-4CD2-B5DF-C52FE387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995-B3E3-4199-871D-85822A16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F09-0A40-4B37-88E0-46DFA40C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424-154A-4033-AC8A-8057110F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D525-BFA7-4047-A1E9-0B51C4685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-astro.physics.ox.ac.uk/~erik/toad/toad_front.jpg&amp;imgrefurl=http://www-astro.physics.ox.ac.uk/~erik/toad/toad_front.html&amp;h=241&amp;w=246&amp;sz=22&amp;tbnid=xr9wGgFVf2UJ:&amp;tbnh=102&amp;tbnw=105&amp;hl=en&amp;start=5&amp;prev=/images%3Fq%3Dtoads%26svnum%3D10%26hl%3Den%26lr%3D%26rls%3DHPIB,HPIB:2005-17,HPIB:en%26sa%3DN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Fr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om 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all kinds of fro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28800" y="4876920"/>
            <a:ext cx="53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 frogs with red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n frogs with white stripes on their be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757520"/>
            <a:ext cx="807732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to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0199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re all amphibia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514600" cy="167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36880" y="2595600"/>
            <a:ext cx="1471680" cy="1666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0" y="4495680"/>
            <a:ext cx="3124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ll start out as an eg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1728720"/>
            <a:ext cx="59436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they change into a tad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35296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ll will grow and chan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2325600"/>
            <a:ext cx="48765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become all kinds of fro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1471680" cy="1667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1714680"/>
            <a:ext cx="1981440" cy="1923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3200400" y="2000160"/>
            <a:ext cx="1828800" cy="1335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2666880" y="3962520"/>
            <a:ext cx="22860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6:24:55Z</dcterms:created>
  <dc:creator>Tracy</dc:creator>
  <dc:description/>
  <dc:language>en-US</dc:language>
  <cp:lastModifiedBy>Tracy</cp:lastModifiedBy>
  <dcterms:modified xsi:type="dcterms:W3CDTF">2005-10-24T16:48:43Z</dcterms:modified>
  <cp:revision>5</cp:revision>
  <dc:subject/>
  <dc:title>All  About Frogs</dc:title>
</cp:coreProperties>
</file>